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13.png" ContentType="image/png"/>
  <Override PartName="/ppt/media/image1.png" ContentType="image/png"/>
  <Override PartName="/ppt/media/image67.png" ContentType="image/png"/>
  <Override PartName="/ppt/media/image66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67DF-CD23-449B-B63D-FE73C07F0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D7CF-5467-4ED0-86EA-7F0C298A7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B66D-367B-4517-9550-3BB8FADF0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94E6-4EBD-4E1A-B061-63DE665AF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E39D-34CE-414C-9596-542AEB9BF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00CC7-D49A-4A1F-8BCA-6E676B5DFA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DAD3F-0C6D-4F4C-86D9-B2F7490C72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7915F-2B04-4B25-9223-CF9292E053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C7A0A-4046-4422-AD36-AEBD28F2DE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D64A5-EE1B-429E-A152-A2252F18A9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B974-644A-4EBD-950B-B67FC03B43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68E3D-7426-4983-B5A7-C354DF2B62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0379D-BA1F-4349-9F4A-149E1A53A7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A531F-6740-42B7-ABCC-D1534E13FB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6A952-B339-4809-ABF8-B43BE59378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6875-CFD5-444A-BDBE-A77628111B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1C8CE-D73A-44D3-BFAC-2B82C5987A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84694-A858-4BE8-9ABF-8F3700183C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11C-994D-409B-8EED-E328329DB9F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E77-3118-4DB2-8D65-500E43F472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2E4-B79B-4C0B-87CB-CDBA850E7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4B77-57AB-467A-B4EB-A7D6C725B8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19C8-51DB-4501-B91D-36D31EF19D2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A2C6-6758-43C3-A528-B305E8CD187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3D2-D9FE-4C21-AC19-866FB66BBE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D74-1B45-41AF-A261-B42035ABCFE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AA6B-A6EE-4486-BA90-2CABDE37BBA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05F-3789-4105-84FE-99B8655A18B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EA5-49A4-4C39-A2B0-2ECFD45EC1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ADF-ECC8-40E1-A118-2DC78265B1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EBF-E2F1-40F3-BF84-8A56D9A27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FE43-840C-412B-B7CE-EA9A48D49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DF24-D7EC-4308-BB26-97015D096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399C8-755B-4EC0-BB7C-CF945520A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F0FD-1855-49FE-BDE4-323DA431F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88BD-32BF-4A0D-91A3-2D44AA64F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3CCC-24C3-4D4D-80DE-C2B0E44B9B77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428760"/>
            <a:ext cx="8686800" cy="640080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Rectangle 10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56" name="Rectangle 10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6"/>
          <p:cNvSpPr/>
          <p:nvPr/>
        </p:nvSpPr>
        <p:spPr>
          <a:xfrm rot="16200000">
            <a:off x="-2063880" y="387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5720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xc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990720" y="1660680"/>
            <a:ext cx="8153280" cy="4114800"/>
            <a:chOff x="990720" y="1660680"/>
            <a:chExt cx="8153280" cy="4114800"/>
          </a:xfrm>
        </p:grpSpPr>
        <p:sp>
          <p:nvSpPr>
            <p:cNvPr id="62" name="Rectangle 4"/>
            <p:cNvSpPr/>
            <p:nvPr/>
          </p:nvSpPr>
          <p:spPr>
            <a:xfrm>
              <a:off x="7132680" y="1660680"/>
              <a:ext cx="201132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4"/>
            <a:stretch/>
          </p:blipFill>
          <p:spPr>
            <a:xfrm>
              <a:off x="990720" y="1660680"/>
              <a:ext cx="617220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4"/>
          <p:cNvSpPr/>
          <p:nvPr/>
        </p:nvSpPr>
        <p:spPr>
          <a:xfrm>
            <a:off x="1447920" y="-76320"/>
            <a:ext cx="0" cy="76320"/>
          </a:xfrm>
          <a:prstGeom prst="line">
            <a:avLst/>
          </a:prstGeom>
          <a:ln w="9360">
            <a:solidFill>
              <a:srgbClr val="9bd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2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A1FD-0DBC-4757-A3E6-0CB841D5008A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6"/>
          <p:cNvSpPr/>
          <p:nvPr/>
        </p:nvSpPr>
        <p:spPr>
          <a:xfrm>
            <a:off x="0" y="0"/>
            <a:ext cx="1066680" cy="13716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457200"/>
            <a:ext cx="8686800" cy="6400800"/>
          </a:xfrm>
          <a:prstGeom prst="rect">
            <a:avLst/>
          </a:prstGeom>
          <a:gradFill rotWithShape="0">
            <a:gsLst>
              <a:gs pos="0">
                <a:srgbClr val="26886d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286000" y="2133720"/>
            <a:ext cx="6858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3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160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4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1444680" y="1365120"/>
            <a:ext cx="1682640" cy="3683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3D75-4800-41CE-8562-FE0F104250A3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Subtitle 2" descr=""/>
          <p:cNvPicPr/>
          <p:nvPr/>
        </p:nvPicPr>
        <p:blipFill>
          <a:blip r:embed="rId1"/>
          <a:stretch/>
        </p:blipFill>
        <p:spPr>
          <a:xfrm>
            <a:off x="4084560" y="1646280"/>
            <a:ext cx="4456080" cy="725400"/>
          </a:xfrm>
          <a:prstGeom prst="rect">
            <a:avLst/>
          </a:prstGeom>
          <a:ln w="0">
            <a:noFill/>
          </a:ln>
        </p:spPr>
      </p:pic>
      <p:pic>
        <p:nvPicPr>
          <p:cNvPr id="204" name="Title 1" descr=""/>
          <p:cNvPicPr/>
          <p:nvPr/>
        </p:nvPicPr>
        <p:blipFill>
          <a:blip r:embed="rId2"/>
          <a:stretch/>
        </p:blipFill>
        <p:spPr>
          <a:xfrm>
            <a:off x="3943440" y="2255760"/>
            <a:ext cx="4829040" cy="330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749160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1042920" y="115920"/>
            <a:ext cx="7729560" cy="901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0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Zoom size controls how much you see on screen. You can set the size to be larger or small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1523880" y="3124080"/>
            <a:ext cx="634680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5" name="TextBox 3"/>
          <p:cNvSpPr/>
          <p:nvPr/>
        </p:nvSpPr>
        <p:spPr>
          <a:xfrm>
            <a:off x="6019920" y="46036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Zoom Sl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3759120" y="49737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Zoom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8"/>
          <p:cNvSpPr/>
          <p:nvPr/>
        </p:nvSpPr>
        <p:spPr>
          <a:xfrm>
            <a:off x="7696080" y="478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Zoom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5"/>
          <p:cNvCxnSpPr/>
          <p:nvPr/>
        </p:nvCxnSpPr>
        <p:spPr>
          <a:xfrm>
            <a:off x="5028840" y="5302080"/>
            <a:ext cx="76284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9" name="Straight Arrow Connector 11"/>
          <p:cNvCxnSpPr/>
          <p:nvPr/>
        </p:nvCxnSpPr>
        <p:spPr>
          <a:xfrm flipH="1">
            <a:off x="7772040" y="51814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Straight Arrow Connector 13"/>
          <p:cNvCxnSpPr/>
          <p:nvPr/>
        </p:nvCxnSpPr>
        <p:spPr>
          <a:xfrm>
            <a:off x="6819480" y="4973760"/>
            <a:ext cx="108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990360" y="1828800"/>
            <a:ext cx="69339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close a workbook b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80172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ing the Close Window butt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80172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ing the File command tab and choosing Clo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80172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ing [Ctrl]+[W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80172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ing [Ctrl]+[F4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7010280" y="2209680"/>
            <a:ext cx="552600" cy="55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1023840" y="-6480"/>
            <a:ext cx="8291520" cy="11588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" descr=""/>
          <p:cNvPicPr/>
          <p:nvPr/>
        </p:nvPicPr>
        <p:blipFill>
          <a:blip r:embed="rId2"/>
          <a:stretch/>
        </p:blipFill>
        <p:spPr>
          <a:xfrm>
            <a:off x="1587600" y="1333440"/>
            <a:ext cx="6858000" cy="514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487600" cy="615960"/>
          </a:xfrm>
          <a:prstGeom prst="rect">
            <a:avLst/>
          </a:prstGeom>
          <a:ln w="0">
            <a:noFill/>
          </a:ln>
        </p:spPr>
      </p:pic>
      <p:pic>
        <p:nvPicPr>
          <p:cNvPr id="287" name="Title 5" descr=""/>
          <p:cNvPicPr/>
          <p:nvPr/>
        </p:nvPicPr>
        <p:blipFill>
          <a:blip r:embed="rId2"/>
          <a:stretch/>
        </p:blipFill>
        <p:spPr>
          <a:xfrm>
            <a:off x="3060720" y="2773440"/>
            <a:ext cx="6089760" cy="1322280"/>
          </a:xfrm>
          <a:prstGeom prst="rect">
            <a:avLst/>
          </a:prstGeom>
          <a:ln w="0">
            <a:noFill/>
          </a:ln>
        </p:spPr>
      </p:pic>
      <p:sp>
        <p:nvSpPr>
          <p:cNvPr id="288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9301-BCD7-4C30-AD51-3A58E1C9920D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orksheet cells contain text, numbers, or formul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determine a cell’s contents, click the cell and check the formula b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1981080" y="3581280"/>
            <a:ext cx="5762880" cy="214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2" name="Oval 4"/>
          <p:cNvSpPr/>
          <p:nvPr/>
        </p:nvSpPr>
        <p:spPr>
          <a:xfrm>
            <a:off x="4114800" y="3200400"/>
            <a:ext cx="1295280" cy="83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Straight Arrow Connector 6"/>
          <p:cNvCxnSpPr>
            <a:endCxn id="292" idx="5"/>
          </p:cNvCxnSpPr>
          <p:nvPr/>
        </p:nvCxnSpPr>
        <p:spPr>
          <a:xfrm flipH="1" flipV="1">
            <a:off x="5218920" y="3916080"/>
            <a:ext cx="1639080" cy="1113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8107200" cy="901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990360" y="18288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open a workbook b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ing the File command tab and choosing Ope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ing [Ctrl]+[O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ing [Ctrl]+[F12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ouble-clicking the file name in an Explorer or a Computer window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1828800" y="4275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orkbooks that are opened or copied from an Internet location open in Protected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" descr=""/>
          <p:cNvPicPr/>
          <p:nvPr/>
        </p:nvPicPr>
        <p:blipFill>
          <a:blip r:embed="rId2"/>
          <a:stretch/>
        </p:blipFill>
        <p:spPr>
          <a:xfrm>
            <a:off x="1028880" y="1676520"/>
            <a:ext cx="7738920" cy="20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orksheet cells contain text, numbers, or formul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determine a cell’s contents, click the cell and check the formula b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1981080" y="3581280"/>
            <a:ext cx="5762880" cy="214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2" name="Oval 4"/>
          <p:cNvSpPr/>
          <p:nvPr/>
        </p:nvSpPr>
        <p:spPr>
          <a:xfrm>
            <a:off x="4114800" y="3200400"/>
            <a:ext cx="1295280" cy="83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Straight Arrow Connector 6"/>
          <p:cNvCxnSpPr>
            <a:endCxn id="302" idx="5"/>
          </p:cNvCxnSpPr>
          <p:nvPr/>
        </p:nvCxnSpPr>
        <p:spPr>
          <a:xfrm flipH="1" flipV="1">
            <a:off x="5218920" y="3916080"/>
            <a:ext cx="1639080" cy="1113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2682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the worksheet is in Ready mode, click the cell, key the new data, and press [Enter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delete cell contents, click the cell and press [Delete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art Edit mode by double-clicking a cel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art Edit mode by clicking the cell and pressing [F2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art Edit mode by clicking the cell and clicking in the formula b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206" name="Content Placeholder 3" descr=""/>
          <p:cNvPicPr/>
          <p:nvPr/>
        </p:nvPicPr>
        <p:blipFill>
          <a:blip r:embed="rId2"/>
          <a:stretch/>
        </p:blipFill>
        <p:spPr>
          <a:xfrm>
            <a:off x="378000" y="1352520"/>
            <a:ext cx="8442000" cy="481644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12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BFEC-F577-4B13-8CD0-91119487CC71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890640" y="-6480"/>
            <a:ext cx="8497800" cy="11588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1401840" y="1600200"/>
            <a:ext cx="6827760" cy="454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undo an edit, click the Undo butto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n the Quick Access toolb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 [Ctrl]+[Z] to und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 [Alt]+[Backspace] to und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redo an edit, click the Redo butt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n the Quick Access toolb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 [Ctrl]+[Y] to red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 [F4] to red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2"/>
          <a:stretch/>
        </p:blipFill>
        <p:spPr>
          <a:xfrm>
            <a:off x="7156440" y="3510000"/>
            <a:ext cx="527040" cy="34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1" name="Picture 6" descr=""/>
          <p:cNvPicPr/>
          <p:nvPr/>
        </p:nvPicPr>
        <p:blipFill>
          <a:blip r:embed="rId3"/>
          <a:stretch/>
        </p:blipFill>
        <p:spPr>
          <a:xfrm>
            <a:off x="7156440" y="1523880"/>
            <a:ext cx="61596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3"/>
          <p:cNvSpPr/>
          <p:nvPr/>
        </p:nvSpPr>
        <p:spPr>
          <a:xfrm>
            <a:off x="533520" y="1219320"/>
            <a:ext cx="8610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series is a list of labels, numbers, dates, or times that follows a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You can create a series by keying two values or labels that set an identifiable inter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series is extended using the Fill han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" descr=""/>
          <p:cNvPicPr/>
          <p:nvPr/>
        </p:nvPicPr>
        <p:blipFill>
          <a:blip r:embed="rId2"/>
          <a:stretch/>
        </p:blipFill>
        <p:spPr>
          <a:xfrm>
            <a:off x="1676520" y="4114800"/>
            <a:ext cx="594504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5" name="Oval 2"/>
          <p:cNvSpPr/>
          <p:nvPr/>
        </p:nvSpPr>
        <p:spPr>
          <a:xfrm>
            <a:off x="6248520" y="5334120"/>
            <a:ext cx="60948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487600" cy="615960"/>
          </a:xfrm>
          <a:prstGeom prst="rect">
            <a:avLst/>
          </a:prstGeom>
          <a:ln w="0">
            <a:noFill/>
          </a:ln>
        </p:spPr>
      </p:pic>
      <p:pic>
        <p:nvPicPr>
          <p:cNvPr id="317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6278400" cy="1474560"/>
          </a:xfrm>
          <a:prstGeom prst="rect">
            <a:avLst/>
          </a:prstGeom>
          <a:ln w="0">
            <a:noFill/>
          </a:ln>
        </p:spPr>
      </p:pic>
      <p:sp>
        <p:nvSpPr>
          <p:cNvPr id="318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75CC-9C8D-4196-AE74-2E7B14816DDE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890640" y="-6480"/>
            <a:ext cx="8412120" cy="115884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9"/>
          <p:cNvSpPr/>
          <p:nvPr/>
        </p:nvSpPr>
        <p:spPr>
          <a:xfrm>
            <a:off x="685800" y="163836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umns are 8.43 spaces (64 pixels) wide with the default Office document the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ows are 15.00 points (20 pixels)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point measures 1/72 i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ScreenTip helps you size columns/rows when you drag a b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You can also use the Column Width and Row Height dialog box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884160" y="212760"/>
            <a:ext cx="8521920" cy="8049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"/>
          <p:cNvPicPr/>
          <p:nvPr/>
        </p:nvPicPr>
        <p:blipFill>
          <a:blip r:embed="rId2"/>
          <a:stretch/>
        </p:blipFill>
        <p:spPr>
          <a:xfrm>
            <a:off x="762120" y="3809880"/>
            <a:ext cx="436248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3" name="Text Box 10"/>
          <p:cNvSpPr/>
          <p:nvPr/>
        </p:nvSpPr>
        <p:spPr>
          <a:xfrm>
            <a:off x="5330880" y="49528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esizing a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" descr=""/>
          <p:cNvPicPr/>
          <p:nvPr/>
        </p:nvPicPr>
        <p:blipFill>
          <a:blip r:embed="rId3"/>
          <a:stretch/>
        </p:blipFill>
        <p:spPr>
          <a:xfrm>
            <a:off x="4000680" y="1301760"/>
            <a:ext cx="4952880" cy="21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5" name="Text Box 10"/>
          <p:cNvSpPr/>
          <p:nvPr/>
        </p:nvSpPr>
        <p:spPr>
          <a:xfrm>
            <a:off x="1734480" y="16002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esizing a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2"/>
          <p:cNvSpPr/>
          <p:nvPr/>
        </p:nvSpPr>
        <p:spPr>
          <a:xfrm>
            <a:off x="4800600" y="1143000"/>
            <a:ext cx="16002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685800" y="4483080"/>
            <a:ext cx="1828800" cy="83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890640" y="-6480"/>
            <a:ext cx="8412120" cy="115884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3"/>
          <p:cNvSpPr/>
          <p:nvPr/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serted or deleted rows and columns extend across and down the entire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a row/column is inserted within a formula range, the formula is adjusted to include the new row/colum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a row/column within a formula range is deleted, the formula is adjus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487600" cy="615960"/>
          </a:xfrm>
          <a:prstGeom prst="rect">
            <a:avLst/>
          </a:prstGeom>
          <a:ln w="0">
            <a:noFill/>
          </a:ln>
        </p:spPr>
      </p:pic>
      <p:pic>
        <p:nvPicPr>
          <p:cNvPr id="331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6278400" cy="1298520"/>
          </a:xfrm>
          <a:prstGeom prst="rect">
            <a:avLst/>
          </a:prstGeom>
          <a:ln w="0">
            <a:noFill/>
          </a:ln>
        </p:spPr>
      </p:pic>
      <p:sp>
        <p:nvSpPr>
          <p:cNvPr id="332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80D8-D427-4062-ACB3-82D495D7B4ED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685800" y="14479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save a workbook, give it a descriptive fil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ry to keep file names as short as possible, although they can be up to 255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use uppercase or lowercase letters in a file name. Windows does not distinguish between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o not use these characters in a fil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\ ? : * “ &lt; &gt; 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workbook file names are followed by a period and a four-letter extension, XLS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487600" cy="615960"/>
          </a:xfrm>
          <a:prstGeom prst="rect">
            <a:avLst/>
          </a:prstGeom>
          <a:ln w="0">
            <a:noFill/>
          </a:ln>
        </p:spPr>
      </p:pic>
      <p:pic>
        <p:nvPicPr>
          <p:cNvPr id="336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6278400" cy="1298520"/>
          </a:xfrm>
          <a:prstGeom prst="rect">
            <a:avLst/>
          </a:prstGeom>
          <a:ln w="0">
            <a:noFill/>
          </a:ln>
        </p:spPr>
      </p:pic>
      <p:sp>
        <p:nvSpPr>
          <p:cNvPr id="337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E8FA-BAB5-4546-8823-54BA8EA062A8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487600" cy="615960"/>
          </a:xfrm>
          <a:prstGeom prst="rect">
            <a:avLst/>
          </a:prstGeom>
          <a:ln w="0">
            <a:noFill/>
          </a:ln>
        </p:spPr>
      </p:pic>
      <p:pic>
        <p:nvPicPr>
          <p:cNvPr id="209" name="Title 5" descr=""/>
          <p:cNvPicPr/>
          <p:nvPr/>
        </p:nvPicPr>
        <p:blipFill>
          <a:blip r:embed="rId2"/>
          <a:stretch/>
        </p:blipFill>
        <p:spPr>
          <a:xfrm>
            <a:off x="3041640" y="2762280"/>
            <a:ext cx="5121360" cy="1401840"/>
          </a:xfrm>
          <a:prstGeom prst="rect">
            <a:avLst/>
          </a:prstGeom>
          <a:ln w="0">
            <a:noFill/>
          </a:ln>
        </p:spPr>
      </p:pic>
      <p:sp>
        <p:nvSpPr>
          <p:cNvPr id="210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09F7-B7C6-4D09-A5A6-21EFAEC1AF69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 [Ctrl]+[P] to open Backstage view for printing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he File command tab and choose Print to open Backstage view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he Quick Print button             if it is on the Quick Access toolb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2"/>
          <a:stretch/>
        </p:blipFill>
        <p:spPr>
          <a:xfrm>
            <a:off x="5410080" y="3733920"/>
            <a:ext cx="490680" cy="49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214-Fig01-17.png"/>
          <p:cNvPicPr/>
          <p:nvPr/>
        </p:nvPicPr>
        <p:blipFill>
          <a:blip r:embed="rId2"/>
          <a:stretch/>
        </p:blipFill>
        <p:spPr>
          <a:xfrm>
            <a:off x="1600200" y="1371600"/>
            <a:ext cx="6477120" cy="485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487600" cy="615960"/>
          </a:xfrm>
          <a:prstGeom prst="rect">
            <a:avLst/>
          </a:prstGeom>
          <a:ln w="0">
            <a:noFill/>
          </a:ln>
        </p:spPr>
      </p:pic>
      <p:pic>
        <p:nvPicPr>
          <p:cNvPr id="344" name="Title 5" descr=""/>
          <p:cNvPicPr/>
          <p:nvPr/>
        </p:nvPicPr>
        <p:blipFill>
          <a:blip r:embed="rId2"/>
          <a:stretch/>
        </p:blipFill>
        <p:spPr>
          <a:xfrm>
            <a:off x="2951280" y="2749680"/>
            <a:ext cx="6199200" cy="1474560"/>
          </a:xfrm>
          <a:prstGeom prst="rect">
            <a:avLst/>
          </a:prstGeom>
          <a:ln w="0">
            <a:noFill/>
          </a:ln>
        </p:spPr>
      </p:pic>
      <p:sp>
        <p:nvSpPr>
          <p:cNvPr id="345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B8CB-65B4-49A6-87E8-2D80672851D2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884160" y="-6480"/>
            <a:ext cx="8650440" cy="1158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214-Fig01-19.png"/>
          <p:cNvPicPr/>
          <p:nvPr/>
        </p:nvPicPr>
        <p:blipFill>
          <a:blip r:embed="rId2"/>
          <a:stretch/>
        </p:blipFill>
        <p:spPr>
          <a:xfrm>
            <a:off x="5381640" y="1306440"/>
            <a:ext cx="2771640" cy="504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8" name="Picture 7" descr="214-Fig01-18.png"/>
          <p:cNvPicPr/>
          <p:nvPr/>
        </p:nvPicPr>
        <p:blipFill>
          <a:blip r:embed="rId3"/>
          <a:stretch/>
        </p:blipFill>
        <p:spPr>
          <a:xfrm>
            <a:off x="1004760" y="1787400"/>
            <a:ext cx="4024440" cy="369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1036800" y="-6480"/>
            <a:ext cx="8497800" cy="1158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1709640" y="1676520"/>
            <a:ext cx="5724720" cy="42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1" name="Oval 3"/>
          <p:cNvSpPr/>
          <p:nvPr/>
        </p:nvSpPr>
        <p:spPr>
          <a:xfrm>
            <a:off x="3581280" y="1523880"/>
            <a:ext cx="9907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6"/>
          <p:cNvSpPr/>
          <p:nvPr/>
        </p:nvSpPr>
        <p:spPr>
          <a:xfrm>
            <a:off x="5905440" y="2832120"/>
            <a:ext cx="9907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5"/>
          <p:cNvSpPr/>
          <p:nvPr/>
        </p:nvSpPr>
        <p:spPr>
          <a:xfrm>
            <a:off x="6324480" y="5410080"/>
            <a:ext cx="9907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487600" cy="615960"/>
          </a:xfrm>
          <a:prstGeom prst="rect">
            <a:avLst/>
          </a:prstGeom>
          <a:ln w="0">
            <a:noFill/>
          </a:ln>
        </p:spPr>
      </p:pic>
      <p:pic>
        <p:nvPicPr>
          <p:cNvPr id="355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474560"/>
          </a:xfrm>
          <a:prstGeom prst="rect">
            <a:avLst/>
          </a:prstGeom>
          <a:ln w="0">
            <a:noFill/>
          </a:ln>
        </p:spPr>
      </p:pic>
      <p:sp>
        <p:nvSpPr>
          <p:cNvPr id="356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BD29-5FA2-41CF-86D1-BD924C575460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8008920" cy="1158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761760" y="16765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ell alignment determines how the contents of a cell are positioned in the cel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border is a line around a cell or a group of cells. Borders are used to emphasize data, group data, and mo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ll is the background color or pattern for a cell or group of cells. It is used for grouping and emphasi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2"/>
          <a:stretch/>
        </p:blipFill>
        <p:spPr>
          <a:xfrm>
            <a:off x="828720" y="1676520"/>
            <a:ext cx="7934400" cy="40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487600" cy="615960"/>
          </a:xfrm>
          <a:prstGeom prst="rect">
            <a:avLst/>
          </a:prstGeom>
          <a:ln w="0">
            <a:noFill/>
          </a:ln>
        </p:spPr>
      </p:pic>
      <p:pic>
        <p:nvPicPr>
          <p:cNvPr id="362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973480" cy="1474560"/>
          </a:xfrm>
          <a:prstGeom prst="rect">
            <a:avLst/>
          </a:prstGeom>
          <a:ln w="0">
            <a:noFill/>
          </a:ln>
        </p:spPr>
      </p:pic>
      <p:sp>
        <p:nvSpPr>
          <p:cNvPr id="363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1B32-268F-41B3-B9BA-2BBF3D75571A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1036800" y="-6480"/>
            <a:ext cx="8150040" cy="1158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7034040" cy="5149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914040" y="17521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w you start Excel depends on how your software is installed and what shortcuts, if any, are availa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opens with a blank workbook, the Quick Access toolbar, and the Ribb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screen size and its resolution setting affect how command buttons appe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066680" y="1904760"/>
            <a:ext cx="73152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hart is a graph of data in the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hart style is a preset selection of colors and special effec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hart has many smaller objects including a title and data label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7" name="Title 1" descr=""/>
          <p:cNvPicPr/>
          <p:nvPr/>
        </p:nvPicPr>
        <p:blipFill>
          <a:blip r:embed="rId1"/>
          <a:stretch/>
        </p:blipFill>
        <p:spPr>
          <a:xfrm>
            <a:off x="957240" y="212760"/>
            <a:ext cx="8150400" cy="80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761760" y="2514240"/>
            <a:ext cx="78483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0480" indent="-284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he File command tab and choose Exi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0480" indent="-284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he Close button           to close the workbook and then again to exit Exce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0480" indent="-284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 [Ctrl]+[F4] to close a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0480" indent="-284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 [Alt]+[F4] to exit Exce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609480" y="13716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re are several ways to close a workbook and exit Excel. You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4910040" y="3070080"/>
            <a:ext cx="414360" cy="41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1066320" y="1447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opens with a blank workbook and the Ribbon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File command tab shows information about the open workbook and provides access to Open, Print, and Save &amp; Send command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new workbook opens with three worksheets. A worksheet is an individual page or tab in the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9144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orksheets are divided into cells, the intersections of rows and columns. The location of the cell is its address (also called its cell reference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active cell is outlined with a black border. It is ready to accept new data or a formula or to be edit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Name Box shows the address of the active cell. You can also use it to change the active cel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1143000" y="15998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place cell data by clicking the cell and keying new data. Edit long or complicated cell data rather than rekeying them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Undo and Redo buttons have history arrows so that you can undo or redo multiple commands at onc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 the Fill handle to fill a series of labels or to copy a formul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914040" y="17521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lumn widths and row heights can be changed, and columns and rows can be inserted or delet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 Excel workbook has an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xlsx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file name extension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unction is a built-in formula. Commonly used functions such as SUM and AVERAGE can be inserted from a button on the Home tab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990360" y="16002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ell alignment affects how cell contents are horizontally or vertically position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ll and borders can be used to differentiate and emphasize parts of the worksheet for greater readabilit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hart is a graphic representation of data in a worksheet. Charts have various elements that can be edited to change the look of the char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858000" cy="514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Rectangle 2" descr=""/>
          <p:cNvPicPr/>
          <p:nvPr/>
        </p:nvPicPr>
        <p:blipFill>
          <a:blip r:embed="rId2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50"/>
          <p:cNvGrpSpPr/>
          <p:nvPr/>
        </p:nvGrpSpPr>
        <p:grpSpPr>
          <a:xfrm>
            <a:off x="356400" y="1219320"/>
            <a:ext cx="8673120" cy="5298120"/>
            <a:chOff x="356400" y="1219320"/>
            <a:chExt cx="8673120" cy="5298120"/>
          </a:xfrm>
        </p:grpSpPr>
        <p:sp>
          <p:nvSpPr>
            <p:cNvPr id="216" name="Text Box 17"/>
            <p:cNvSpPr/>
            <p:nvPr/>
          </p:nvSpPr>
          <p:spPr>
            <a:xfrm>
              <a:off x="2641320" y="1219320"/>
              <a:ext cx="203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Quick Access tool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9"/>
            <p:cNvSpPr/>
            <p:nvPr/>
          </p:nvSpPr>
          <p:spPr>
            <a:xfrm>
              <a:off x="8223840" y="175248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Ribb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0"/>
            <p:cNvSpPr/>
            <p:nvPr/>
          </p:nvSpPr>
          <p:spPr>
            <a:xfrm>
              <a:off x="2495520" y="2286000"/>
              <a:ext cx="10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Name Bo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1"/>
            <p:cNvSpPr/>
            <p:nvPr/>
          </p:nvSpPr>
          <p:spPr>
            <a:xfrm>
              <a:off x="4379760" y="541008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Horizontal scroll 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2"/>
            <p:cNvSpPr/>
            <p:nvPr/>
          </p:nvSpPr>
          <p:spPr>
            <a:xfrm>
              <a:off x="5160240" y="2124000"/>
              <a:ext cx="127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Formula 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3"/>
            <p:cNvSpPr/>
            <p:nvPr/>
          </p:nvSpPr>
          <p:spPr>
            <a:xfrm>
              <a:off x="2208960" y="284652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Active c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4"/>
            <p:cNvSpPr/>
            <p:nvPr/>
          </p:nvSpPr>
          <p:spPr>
            <a:xfrm>
              <a:off x="5787720" y="1219320"/>
              <a:ext cx="92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Title 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5"/>
            <p:cNvSpPr/>
            <p:nvPr/>
          </p:nvSpPr>
          <p:spPr>
            <a:xfrm>
              <a:off x="1940040" y="3714840"/>
              <a:ext cx="142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Row head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6"/>
            <p:cNvSpPr/>
            <p:nvPr/>
          </p:nvSpPr>
          <p:spPr>
            <a:xfrm>
              <a:off x="7235640" y="5151600"/>
              <a:ext cx="1267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Zoom slid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and butt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7"/>
            <p:cNvSpPr/>
            <p:nvPr/>
          </p:nvSpPr>
          <p:spPr>
            <a:xfrm>
              <a:off x="356400" y="1752480"/>
              <a:ext cx="143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Command t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8"/>
            <p:cNvSpPr/>
            <p:nvPr/>
          </p:nvSpPr>
          <p:spPr>
            <a:xfrm>
              <a:off x="6366240" y="3886200"/>
              <a:ext cx="174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Vertical scroll 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9"/>
            <p:cNvSpPr/>
            <p:nvPr/>
          </p:nvSpPr>
          <p:spPr>
            <a:xfrm>
              <a:off x="1626840" y="525780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Tab scrolling butt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30"/>
            <p:cNvSpPr/>
            <p:nvPr/>
          </p:nvSpPr>
          <p:spPr>
            <a:xfrm>
              <a:off x="3597480" y="621036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Status 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1"/>
            <p:cNvSpPr/>
            <p:nvPr/>
          </p:nvSpPr>
          <p:spPr>
            <a:xfrm>
              <a:off x="6139440" y="5740560"/>
              <a:ext cx="142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View switc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2"/>
            <p:cNvSpPr/>
            <p:nvPr/>
          </p:nvSpPr>
          <p:spPr>
            <a:xfrm>
              <a:off x="2018520" y="5638680"/>
              <a:ext cx="158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Worksheet ta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3"/>
            <p:cNvSpPr/>
            <p:nvPr/>
          </p:nvSpPr>
          <p:spPr>
            <a:xfrm flipH="1">
              <a:off x="2362320" y="1371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4"/>
            <p:cNvSpPr/>
            <p:nvPr/>
          </p:nvSpPr>
          <p:spPr>
            <a:xfrm flipH="1">
              <a:off x="5508720" y="1371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5"/>
            <p:cNvSpPr/>
            <p:nvPr/>
          </p:nvSpPr>
          <p:spPr>
            <a:xfrm flipH="1">
              <a:off x="4876920" y="2286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36"/>
            <p:cNvSpPr/>
            <p:nvPr/>
          </p:nvSpPr>
          <p:spPr>
            <a:xfrm flipH="1" flipV="1">
              <a:off x="2209320" y="2335320"/>
              <a:ext cx="381240" cy="1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7"/>
            <p:cNvSpPr/>
            <p:nvPr/>
          </p:nvSpPr>
          <p:spPr>
            <a:xfrm flipH="1" flipV="1">
              <a:off x="2057040" y="2722680"/>
              <a:ext cx="19044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8"/>
            <p:cNvSpPr/>
            <p:nvPr/>
          </p:nvSpPr>
          <p:spPr>
            <a:xfrm flipH="1">
              <a:off x="16765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9"/>
            <p:cNvSpPr/>
            <p:nvPr/>
          </p:nvSpPr>
          <p:spPr>
            <a:xfrm>
              <a:off x="8039160" y="4038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40"/>
            <p:cNvSpPr/>
            <p:nvPr/>
          </p:nvSpPr>
          <p:spPr>
            <a:xfrm flipV="1">
              <a:off x="1673280" y="1617480"/>
              <a:ext cx="38412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42"/>
            <p:cNvSpPr/>
            <p:nvPr/>
          </p:nvSpPr>
          <p:spPr>
            <a:xfrm>
              <a:off x="8153280" y="1676520"/>
              <a:ext cx="152640" cy="457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3"/>
            <p:cNvSpPr/>
            <p:nvPr/>
          </p:nvSpPr>
          <p:spPr>
            <a:xfrm>
              <a:off x="5684040" y="3048120"/>
              <a:ext cx="173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Column head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44"/>
            <p:cNvSpPr/>
            <p:nvPr/>
          </p:nvSpPr>
          <p:spPr>
            <a:xfrm flipV="1">
              <a:off x="6553080" y="2541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45"/>
            <p:cNvSpPr/>
            <p:nvPr/>
          </p:nvSpPr>
          <p:spPr>
            <a:xfrm>
              <a:off x="6858000" y="6019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6"/>
            <p:cNvSpPr/>
            <p:nvPr/>
          </p:nvSpPr>
          <p:spPr>
            <a:xfrm>
              <a:off x="5356080" y="568944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7"/>
            <p:cNvSpPr/>
            <p:nvPr/>
          </p:nvSpPr>
          <p:spPr>
            <a:xfrm>
              <a:off x="7856640" y="5638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8"/>
            <p:cNvSpPr/>
            <p:nvPr/>
          </p:nvSpPr>
          <p:spPr>
            <a:xfrm flipH="1">
              <a:off x="1649160" y="5537160"/>
              <a:ext cx="352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9"/>
            <p:cNvSpPr/>
            <p:nvPr/>
          </p:nvSpPr>
          <p:spPr>
            <a:xfrm>
              <a:off x="2752560" y="5918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871560" y="-6480"/>
            <a:ext cx="8510400" cy="1158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1371600" y="1301760"/>
            <a:ext cx="6934320" cy="520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workbook is the file that Excel creates to store da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worksheet is an individual page or tab in the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ell is a rectangle formed by the intersection of a row and a colum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ell addresses identify where the cell is located on the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1023840" y="-6480"/>
            <a:ext cx="8236080" cy="1158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6678720" cy="510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"/>
          <p:cNvSpPr/>
          <p:nvPr/>
        </p:nvSpPr>
        <p:spPr>
          <a:xfrm>
            <a:off x="679320" y="121932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you scroll in a worksheet, the active cell does not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2625840" y="1841400"/>
            <a:ext cx="4190760" cy="456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6" name="TextBox 4"/>
          <p:cNvSpPr/>
          <p:nvPr/>
        </p:nvSpPr>
        <p:spPr>
          <a:xfrm>
            <a:off x="7010280" y="2146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Up scroll a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8"/>
          <p:cNvSpPr/>
          <p:nvPr/>
        </p:nvSpPr>
        <p:spPr>
          <a:xfrm>
            <a:off x="7010280" y="58672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Down scroll a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Straight Arrow Connector 6"/>
          <p:cNvCxnSpPr/>
          <p:nvPr/>
        </p:nvCxnSpPr>
        <p:spPr>
          <a:xfrm flipH="1" flipV="1">
            <a:off x="6794280" y="1980360"/>
            <a:ext cx="305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9" name="Straight Arrow Connector 9"/>
          <p:cNvCxnSpPr/>
          <p:nvPr/>
        </p:nvCxnSpPr>
        <p:spPr>
          <a:xfrm flipH="1">
            <a:off x="6794280" y="605772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0" name="TextBox 13"/>
          <p:cNvSpPr/>
          <p:nvPr/>
        </p:nvSpPr>
        <p:spPr>
          <a:xfrm>
            <a:off x="4416480" y="3352680"/>
            <a:ext cx="20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Vertical scroll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3843360" y="5138640"/>
            <a:ext cx="210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Horizontal scroll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Straight Arrow Connector 11"/>
          <p:cNvCxnSpPr/>
          <p:nvPr/>
        </p:nvCxnSpPr>
        <p:spPr>
          <a:xfrm>
            <a:off x="4892400" y="5478480"/>
            <a:ext cx="1080" cy="58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Straight Arrow Connector 16"/>
          <p:cNvCxnSpPr/>
          <p:nvPr/>
        </p:nvCxnSpPr>
        <p:spPr>
          <a:xfrm>
            <a:off x="6324120" y="35222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4" name="TextBox 20"/>
          <p:cNvSpPr/>
          <p:nvPr/>
        </p:nvSpPr>
        <p:spPr>
          <a:xfrm>
            <a:off x="2130480" y="5467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Left scroll a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Straight Arrow Connector 18"/>
          <p:cNvCxnSpPr/>
          <p:nvPr/>
        </p:nvCxnSpPr>
        <p:spPr>
          <a:xfrm>
            <a:off x="3403440" y="5790960"/>
            <a:ext cx="33912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6" name="TextBox 23"/>
          <p:cNvSpPr/>
          <p:nvPr/>
        </p:nvSpPr>
        <p:spPr>
          <a:xfrm>
            <a:off x="6561000" y="5172120"/>
            <a:ext cx="175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Right scroll a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Straight Arrow Connector 21"/>
          <p:cNvCxnSpPr/>
          <p:nvPr/>
        </p:nvCxnSpPr>
        <p:spPr>
          <a:xfrm flipH="1">
            <a:off x="6560280" y="5491080"/>
            <a:ext cx="653400" cy="65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8" name="TextBox 26"/>
          <p:cNvSpPr/>
          <p:nvPr/>
        </p:nvSpPr>
        <p:spPr>
          <a:xfrm>
            <a:off x="1515960" y="6006960"/>
            <a:ext cx="122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Tab spli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Straight Arrow Connector 24"/>
          <p:cNvCxnSpPr/>
          <p:nvPr/>
        </p:nvCxnSpPr>
        <p:spPr>
          <a:xfrm>
            <a:off x="2743200" y="6227280"/>
            <a:ext cx="830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7:00:57Z</dcterms:created>
  <dc:creator>Pat R. Graves</dc:creator>
  <dc:description/>
  <dc:language>en-US</dc:language>
  <cp:lastModifiedBy>cathy_tepper</cp:lastModifiedBy>
  <dcterms:modified xsi:type="dcterms:W3CDTF">2010-07-07T21:05:49Z</dcterms:modified>
  <cp:revision>85</cp:revision>
  <dc:subject/>
  <dc:title>Microsoft office</dc:title>
</cp:coreProperties>
</file>